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E44-2971-4D13-8E9B-C374D85A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BE0-3B7A-4A0D-8537-B5B2A868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ECE-95A9-4B79-B561-124C57FB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657-7297-4608-A449-7E647641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DE1-8AF2-45AB-86E2-44B56FC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A11-665B-4681-ADDC-C30B899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720-A267-4935-BBE3-7E0BB8AE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251-4903-408E-8D58-AE7F141B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E6C-CBDC-407C-8623-6457A93B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969-F2B8-4E6C-97C2-9AE6CFA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055-ADBB-431E-BB54-2C72F2D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E9-058A-4C0D-A0F2-67F69668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860-F80C-49F7-8ABB-C2B501594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nsu.edu/emuseum/history/middleages/contents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769000" y="1553400"/>
            <a:ext cx="290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medium aevum”, 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(Medieval)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Is Latin for the Middle Ages 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6" descr="rainb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432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ld English Text MT"/>
              </a:rPr>
              <a:t>Agenda 4-2 &amp; 3-12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Blabberize Bio due next wee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90720"/>
            <a:ext cx="51055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cus: 4-2 &amp; 3-1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List 3 reasons why Rome Fell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1676520"/>
            <a:ext cx="5105520" cy="132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Rome became too big to govern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barbarian attacks weakened the empire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army became weaker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638680" y="228600"/>
            <a:ext cx="28195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out a highlighter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2-04-16T13:01:04Z</dcterms:modified>
  <cp:revision>51</cp:revision>
  <dc:subject/>
  <dc:title>PowerPoint Presentation</dc:title>
</cp:coreProperties>
</file>